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402-8350-434E-946D-664827DA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8CC-ABC0-4782-9550-050C561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AE9B7-0C57-40FC-B8CB-11DACAFA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AA038-6668-49B9-AE85-A83A0207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82FB1-05CC-4F05-A376-E4FD2286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F988E-DC0E-45F2-872B-83AFEDFD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6B29E-DC66-41E4-AB81-5E51950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6BDA7-7D81-4DD3-83C1-8332F8B0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1C49-FD3A-4656-B6CA-1C7CCA83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6B6BD-FAB7-4451-ADA3-114B281F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0BD66-940B-4F18-9336-BC161FC1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A4F1A-3976-4CE9-A37E-3007D5B7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10B-4CCB-42C3-B4FA-D613962C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7BF02-6D84-43A4-9DDF-68A4E2F3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B04BD-0422-416E-8459-68781DAD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15463-165E-46A2-9ACC-B4AB2B52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72772-80ED-46C5-AB7F-3206EDCE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C167-787E-44C1-B4DE-8EC702D1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C37EF-82F5-453F-AAA0-863C296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F3F29-76ED-4586-860F-5678602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F7E82-EECD-45AE-A63B-DC35D00D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4A6A7-8478-48B8-9BA6-8887983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6FE1A-7399-47C8-812D-9B6DEDD6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018-60E6-4B83-9AFF-35694882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F93B0-5EBF-4ADA-A3E9-48AD6B21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9807C-BFAA-45BF-B768-6CAC3D9E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7223F-AB2D-4B60-B586-B6129B13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3E17D-68B1-478F-A096-0A4DF99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E56B4-95E7-460B-A416-F1928AB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E0A5B-7FED-4655-A5A7-8A37D118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6BEEB-D88D-47A0-961D-1F5E0380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AF3B3-5C04-4278-9CCA-6D8CFB93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42C95-A3FA-4499-B42C-E5405C4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770B2-C705-4748-BF8B-01A5BB4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D85C-73E9-43CD-8483-3B2D4B38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A0E20-33B2-4C00-B342-4E0EA785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6F219-6258-4524-85E7-5699D29A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05650-09B4-4112-826F-3E06F602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44F88-EE83-4A4F-B799-A0A3F1A4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2994F-00CE-451E-8D8F-39A79FC9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8D8F8-AD80-4088-A598-F1FB9A31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0D68A-E1D0-46E3-8D57-3811654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D0BDD-9A6A-4BE8-B125-76FA575D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E1639-66A6-4F3F-8B78-558A1225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05FC9-49EF-4A85-BC27-126A4C69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215-24EC-42B8-9CB7-5705A3C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1F83F-C3A0-4391-9239-AC080FCC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256CA-C765-4608-987F-2F971AF9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8653F-0AA7-4F00-9A9C-9A6C35F4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47861-1237-4471-BE50-CCEA0608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6751A-F05C-4A71-939D-74B28B8F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976BC-56A9-4B9A-B52B-FA77EE7D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81003-43F5-4A98-8D46-84A15194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B8014-9091-4C6C-843F-8942BD9D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FD30B-456E-4B36-B098-EF77E3B0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E82BC-7F01-4E39-B018-9401E94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181-0A3C-46E5-90A7-73AAA16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B3037-7E76-4DE9-81D0-E901D3B8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A852F-F4AE-457D-80EB-396C9A2A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8FABC-84AB-4784-A860-3D46CDF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F2B5E-8F30-4194-885C-579792F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1FA96-8323-4206-BCC4-87D636C3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25398-BF90-42D6-A082-265CA52E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EA855-504F-4E93-A0C6-F7C876F0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6A25D-059B-4DC4-997D-0EDF81ED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50D77-8783-4FB1-B016-79AA872A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9A7C6-518A-4136-B68E-A2AE9543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1CA-5A52-473A-A861-2332459A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7BE7C-FC43-4008-B4D3-AC19D4BA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EE9D9-F9E2-447C-B5F8-8E3E29C6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340B1-90FE-4C65-8BD0-18E18F51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2140F-C896-4600-83A0-6D3161D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641AA-9E29-4FFF-8EE5-B18D1AD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EB32C-4C41-4CF7-9D1B-76AE73C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35255-F265-4A49-8C4C-F862DA2F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F541F-E61C-4866-95D3-B65DEDE9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E30CA-7184-4495-9FB6-FF145107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9B885-91AC-46C4-BC6E-316AFACE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EA2F-BEDD-4DC9-8DD0-E40EA4B3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DE109-D60E-4192-AF70-31EACA97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E9D75-8860-49C1-ACAC-AE662A8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C4BB7-55BF-4894-A660-734EC55E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DC692-01DE-4A65-B51F-C53ED366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25B08-F152-4445-BA82-1728760B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3DA8F-72EA-4E03-B111-22DE2C81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3F56C-AED6-4C1E-8B6C-D26021A8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AB96D-94D7-4943-B2D9-CE9EC953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01F7F-A4F3-4BB2-A44B-2C73C708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CE992-6B84-4CB2-A9D9-6AB1B1B7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C6F6-C3D7-4270-9EC0-F2FB9E3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1AFD6-F666-4268-AA40-9BD6CC05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8C121-268A-4219-A1FD-2B70E777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BAFC3-8B1B-49F6-B403-9035D331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1A600-BB25-4BFE-BE37-416FA0F5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F70B8-B536-4A04-9B15-C27190B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164D2-5DFD-4B50-83B1-CCBC515A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F1312-554F-467D-A763-148137C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14C1F4-C4CF-4A41-9584-2F524B0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71004-ECEF-446B-855D-F3E145F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04A9C-37E9-4202-BF70-21E8C84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E874-BCC7-47BB-8AA4-8520730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C277E-7C7B-42B3-B8A5-6C7971FB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3CC03-5D35-4807-B1DD-E6F82BAB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EAAD9-A117-45F9-9EDF-B720AE0F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0092B-99E5-48E9-B5D6-E70CF4E8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0A183-5AFE-46D7-9D2E-360CF842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0D6F1-44F0-4643-88D6-2F5CF678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8CFB9-BACE-45C5-8054-21443DD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2C325-CB01-4E1E-A140-9BA03662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41799-9D4F-4F09-A19F-75E2DF74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9E494-8700-4D9D-9FB1-F554A42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E26-823E-4FB7-B590-A3420A90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8A98-247E-4A28-AB53-82B54E9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EFA7E-649B-4FA6-9D76-9E5479BA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256AB-77B6-4206-B28E-782449D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D2EBF-3892-4072-AAC6-FCE2EDE2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86E6F-B66E-40C0-B397-DEB91CD0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7B74B-0E1A-4823-A0F5-7E80B906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6B513-E159-42B2-BD39-CE3D58B2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899B9-DB7B-4F59-BD92-1D3FA010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ADC40-3F78-4E8F-A3A6-48FFF74C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CE0A3-2D75-462A-931B-529FB796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FB533-FE8C-4D01-B731-E923B92C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3BB9-D493-42F6-B57C-4057788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F3E47-0418-40A3-8D52-27CBC0A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E42BC-3837-426F-AF88-A3E5514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C99DA-84F7-4EE7-B92E-D86B146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0E197-69F4-4503-A519-6B97C51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DECBF-8420-4B91-BE45-F7DBFE4A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4F5FE-B419-4904-9B39-A1974ECB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ED97C-C718-4034-93EE-21CD5730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24C8DE-63FF-436A-9ABF-00DCB483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D37E7-9F71-4DBC-B701-C8045DD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CDDBD-D31B-4251-A9D2-4EA08A8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7DB2-D499-4483-9379-AEAFEF2E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46AA3-9E7D-4939-94AF-E7D21DAD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E7339-99F2-4E46-9F66-1637D18A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2931C-4FD6-418C-9F11-AAFFB88B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79A782-51DF-4BEF-8B3A-C284BA23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D2BC5A-78C5-48C1-967D-E8E5653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CBB06-4374-4647-9EAF-F829EC36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99AD5-595E-4C57-A7EB-C7C9ACE1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76818-1832-496B-A9AF-4561D07C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A1F87-96D4-430D-B35C-4DA2A858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3CCC7-228D-49BF-BCBF-15384BAF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32E-37E0-4EDD-9D85-55DE9AC3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A9DC9-FDFF-4BD6-BE6C-7D698699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EC815-12B4-4136-82B8-0FD313BB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7AAEC-8691-4BE9-9B61-D25295D7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20EBD-2553-495A-BD2C-3CE9B055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48B19-B4FA-4471-B95C-5E71BE1D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33117-7C09-44BB-87D2-61D6127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6D173-FF72-4CC2-B4DD-0F72886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7E46F-5143-4DE8-AAE9-2DFCAD4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82E69-BC15-40A5-AE0C-A5B1473A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B643D-9279-4BB8-8337-ADD7CC93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A96E-36E7-441B-8F62-9653F012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A83AD-6E28-460D-B039-ED66C443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096E4-AD63-451C-BA2A-1BB9D1D8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33D2C-7EA6-401A-A106-D5E35169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F3F51-5F3A-4779-AC4D-F82C0186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AB0475-4B3F-41C6-AA05-D594F433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C3CAD-6539-444D-B292-2652C92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4AB29-52E0-4885-86B8-958A1CB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19C2AB-FD28-449F-9B50-9079E94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C75A9D-4CD0-475D-A7F6-D7DF876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1931DD-B2CD-419C-B75C-255273D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21EC-E5D1-4533-B282-3197CCB7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A137C-AA69-4BAA-B0F4-58F6550D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2D84D-1048-4ADB-86DE-ACBD5B54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3F113-4B20-46F3-85F3-C154368F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15588-4220-425D-AC76-5F072682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B61536-5697-42F2-ABDC-1307EE57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CB42AD-C57F-4FD2-B05C-6365AFFD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7B6149-68F0-466D-8B6A-7C8191F8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7BDE88-B229-437A-8100-C25A84F7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7D6842-E7D4-42E0-8097-3DE061CD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7BEA34-C431-4E09-B8E5-25FA2AB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2A83-4EB4-4FED-B8D0-489B3894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FE2D93-3698-4F04-A4A1-0B89DAC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791626-A2AE-4110-90FD-6A79BF5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DB2ED-D9D1-4B2B-B81B-EE9EDDD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33E64-0EF0-482A-9FE7-FF5F46B9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A2963D-4757-4F1C-98C2-85EAF8FE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760B88-8D00-4A6E-94F6-1E203A10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8A1D6D-A289-4D37-AF73-D97BDFB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F08E00-EF08-46E2-A1E0-97F3CA1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14685-AA77-45F1-B43D-FD4A3630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45491A-E3C5-4694-BACC-79B29C2A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5609-AD32-49D8-AC36-B1A7DC1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959E0-F6AD-4006-9683-BFF5A369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27C9F1-F054-4A53-841F-B1F1A80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0AA60-CD90-48A9-B1C9-5BD033C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BCBFAA-A36F-4AF1-A771-516386D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C60A10-B668-4B9B-B16F-C264E11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AD34BC-4C75-4627-8644-D13DF8B2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029EED-3149-4D90-B051-02EABA0E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BC40-1EF7-48C9-827D-1E0FCEC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5963-BF07-402A-A01C-5189D735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5C9-248F-4B8D-915F-8820986E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05C4-9FCC-40FF-B360-29BC002F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23DA-9495-4F6D-8894-B416471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638B-03F7-4458-85F6-B3851D84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3D2F-74AD-4076-BACD-EBE8AE4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3796-4888-4596-B5CA-C2BB74EC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8152-5CF0-45C3-92D8-A7404FD6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F261-320F-41C6-BE75-0F26B2E3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387D-4ED6-47A7-9752-E64180A1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1439-9AC7-4F55-B417-BA788F3A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3D773-DBBE-4338-BF95-F751CC6C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DF0-9C92-49BA-907D-9459DA4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F8F0-EEA8-4237-A927-F1AEB76A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2BED-820E-4377-B651-65855F50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794F-4359-428F-B9D8-CF09137C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E912-E180-4336-B505-85C153D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D50E-DB63-4EB6-971C-9D6ABBE2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5C37-128C-4E47-AE50-82A9059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2424-9033-42EC-993B-190FECB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E88E-8C77-4FD1-B303-3D8E0970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1500-A185-4EEE-94F2-66902211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A2D1B-37C9-4B5F-A6CF-00C7516F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9AD-08EB-4319-BB4A-722A46C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B47E0-60F2-409B-8E34-BAEBBF3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900C-491B-4012-A509-24A50A1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DCF4-8EFB-4AA0-8AAD-EE9821F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BFDD6-A6DD-4D69-B1AE-F6CC2E2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60FE-3B4D-4C9B-9F75-1118ED2D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643E-5D21-4F83-882B-0C2B9DA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DDD9D-607B-4E62-9026-CA7D557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21469-308A-4D04-B480-DFC8DD9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473A-41BC-4899-86F3-06114598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02439-99BF-4208-8ABD-9176C023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E87-31EB-4706-8A64-515BFCCB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1800-5EBA-4B4C-A052-16E9E207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5D96-0BFC-4210-A0A5-AB7DD6A8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95F2-668A-47B5-8A86-17C1A7BA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6166-6E26-40F0-819E-54566F1D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D29DE-EED4-4AF7-8A68-868CD13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5E41C-8B99-4CAF-9E96-28455C59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F19B-127D-4222-907C-C0F48A26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2FF1-8A02-45CC-AA16-6B1E28D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26FE8-81F4-4920-AC43-75F7AE0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C7E1-EF2F-4687-9D8F-EF23CC5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A79-AF6E-4ADA-A95D-433B853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51E27-FBDA-49D4-AE4D-03A86E17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E028-2E1D-4831-AEDB-808B3A3F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A03E-EA78-482B-961D-173941CC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EE968-410C-4A8E-A50C-8BA6C694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BD16-88BB-434E-BA0E-847426D3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9F5ED-191C-4AD9-9F49-4A31AF01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B5516-21CD-4A05-B064-7F636FBF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8762-4DD6-4B72-ACE7-BCBE44E4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F93D-AC40-404C-944A-D0B39387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3CCFC-4E05-4ADE-ACEC-BD10B9A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408-759A-4280-8A95-C0920AA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4D69-B011-46F7-A4F0-12A5249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8D65-B672-4CA3-A827-A1CC5CF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60E9-49C4-4CF9-B599-E5712550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AA8C1-6C2A-4D66-A8F5-E14E4780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F072-BDC2-4256-A31A-05982EE9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7BA8-4964-4828-8936-EB67D92B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0DD1-C252-422F-831B-F944E7F1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E6A4D-3C6D-41E8-A4B8-A34D3496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A04FD-5AF8-4E3C-B32A-541D5426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2B28-BE12-43F9-8122-4CB5DB9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73F-5231-4651-AD52-58C982AD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BF69F-45A7-491B-928A-A3E9CCA6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8E77-3085-4382-BE55-4C94A902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38E8-DF20-4501-A119-522A50C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733A-CE4A-4CA1-A380-4B948599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0CCE-B9F2-4FB9-B857-8C1142B9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4F58-66D7-4850-AD09-32AC748B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BEB71-8FAE-40D7-9803-DCFD06ED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F7B69-7804-43FF-8E2B-04C0B159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E7306-9ED1-4EAC-9B87-4807A5FF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ADD3E-4716-440C-ADF7-4BEEF155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70A4-7FBF-4DA9-BBEF-FBA5ED67A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FD77-E23B-4D8C-8ADC-47FB2144A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71A3-3A3F-40F9-ADB7-6CFC3EC97E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49C-81FF-4265-9D8B-F3187F36B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254F-FB85-4CCE-91C7-107D305D7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D198-4A56-4E52-9D50-64F0A30246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C2A9-D8B1-4F1A-A8F7-040F2CDD4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1DBA-526F-4588-947D-83B6F01CE2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4D29-DAAF-4111-8D84-629D89FC0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267-7562-4B8A-8C34-7AA2D5E4A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C671-EA61-466C-BD15-33C1965D4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F59C-72A5-4C6E-BEA9-59688297A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D74-9643-4BCF-BCED-295814ED8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0F93-5FCB-4752-A8C4-E66C8C2FA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8477-3A2E-4EFB-929C-C0977DC13F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4236-657B-40B6-8DEB-F7CC1E5F3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2FE8-7564-4E97-A1F1-43FB2B393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EAD9-1447-48F5-93CD-5BA1187B4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5B7-6E27-4ED9-AD0D-0D75EB9F2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6809-828B-45A9-95F4-52D033E38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A212-0A48-47C5-94E0-231255215B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DBFD-7E1E-427C-923B-18194F8BC5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622-5B6F-4C48-B99B-6FF0E2397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6EFF-47D2-4E7A-8278-A92337B96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93E-549D-4B3C-A652-D942FEC1A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ACCD-02BA-4221-915D-99D880FFD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798C-050A-4838-8902-5B9F3FD80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24CD-BBF6-4920-A55D-3D2289076A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D77-552C-46A5-AAAD-39CEEB580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EA79-E6B8-44F5-91CF-F25D3FB8C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9E9D-3C3F-4EE2-A0E0-A9B1A5536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69C-0374-4E68-8CFA-C8B7256D7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3F4B-E921-47B2-ACAE-A6C84E9511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AAE-368F-44F1-8D1E-84BB2F07EE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B9A5-15C2-4F5D-B9A3-49A64AA09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F3AB-28E2-4842-B089-1D8F8B8D03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9711-9AAB-4318-9AE9-08B2AD9F7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E08-7793-4679-AAA5-C209E7B19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19A-B245-4121-BB38-2BCEC1B11E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D3F6-2A03-4D4B-AE06-D4EC1724BE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5104-9293-4463-9F07-9181AEB23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2E1-CB44-47F2-B661-A033F8910B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9840" y="3079800"/>
            <a:ext cx="90043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90440" y="1652760"/>
            <a:ext cx="876312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776160" y="1676520"/>
            <a:ext cx="7591680" cy="3504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3419640" y="4149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5580000" y="4581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257040" y="706320"/>
            <a:ext cx="8629920" cy="60962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900000" y="4192560"/>
            <a:ext cx="79930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12193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1309680" y="1733400"/>
            <a:ext cx="6524640" cy="33912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258920" y="1757520"/>
            <a:ext cx="56181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56181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56181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1258920" y="3716280"/>
            <a:ext cx="561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1332000" y="439416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09440" y="896760"/>
            <a:ext cx="8925120" cy="562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826920" y="3544920"/>
            <a:ext cx="64818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648180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900000" y="5157720"/>
            <a:ext cx="648180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755640" y="5950080"/>
            <a:ext cx="6481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498600" y="44280"/>
            <a:ext cx="8385120" cy="6767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187280" y="48117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1116000" y="5516640"/>
            <a:ext cx="75596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09520" y="285840"/>
            <a:ext cx="8724960" cy="6286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70188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826920" y="610704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2:0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